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3952-D0ED-478B-80A7-080DD5CEA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573D-8921-46AB-A21C-EBDF19DEC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0B6C-0103-4ADD-AAC0-A0DA8572D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62C8-2D03-4B74-B138-A7A82D7E6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5DB-9236-4215-9BB9-AFCFC2ADC8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816-7F4C-4E83-A6CB-732A12D49B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18D-5DF1-4C19-8422-B3D89184DE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487-C2AF-484F-9D76-B62E1C8413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37B-C9B1-4446-A2DB-FDF48F11FA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79D-0AEE-4049-8CA0-2F383D568A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02B-3375-4839-9849-CA95033B4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4B26-295D-44CE-92AF-14975A504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9A4-A265-46C9-9800-F4771F0DE2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68A-088C-474D-8A52-CBE3D86D51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705-4CFA-4DFD-96F0-FDB4AF0F45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467-622C-4A6A-B8A9-FB2D2673B4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3CB-68FF-4655-BC27-ADC4F7B29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64BE-B71A-4162-ACD8-63DAB76BF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FB6C-E324-48E8-A8C6-86E1E9CA3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EB75-9858-4B74-84BB-B0F1869AC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84C82-9975-41EA-8E5E-25873A94B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3DF2-51F7-4A45-A6D7-206A356DD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58FD-D30C-45E6-806B-02145894C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2C16-C18E-4F4B-93AC-F9C6654A5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79280" y="1988640"/>
            <a:ext cx="784836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1" marL="533520" indent="-16848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8985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1338120" indent="-260280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5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6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079640" y="6297480"/>
            <a:ext cx="720072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604360" y="6297480"/>
            <a:ext cx="28872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2E77-3A9D-410F-AFB0-B60B69D8811A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5ba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79280" y="1196640"/>
            <a:ext cx="78483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44000" y="6297480"/>
            <a:ext cx="43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Arial"/>
              </a:rPr>
              <a:t>Seite</a:t>
            </a:r>
            <a:endParaRPr b="0" lang="en-US" sz="1100" spc="-1" strike="noStrike">
              <a:solidFill>
                <a:srgbClr val="4a4a4a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64640" y="358920"/>
            <a:ext cx="928440" cy="217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079640" y="358920"/>
            <a:ext cx="194472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7701120" y="6297480"/>
            <a:ext cx="1064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Seite </a:t>
            </a:r>
            <a:fld id="{4D3F2CC8-41B6-4BF9-8617-BD90BC9E4D09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be3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620640"/>
            <a:ext cx="15368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nformationssystem Medienpädagogik"/>
          <p:cNvPicPr/>
          <p:nvPr/>
        </p:nvPicPr>
        <p:blipFill>
          <a:blip r:embed="rId3"/>
          <a:srcRect l="0" t="0" r="32248" b="-567"/>
          <a:stretch/>
        </p:blipFill>
        <p:spPr>
          <a:xfrm>
            <a:off x="468360" y="549360"/>
            <a:ext cx="4390920" cy="50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 lvl="1" marL="263520" indent="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622440" indent="171360" algn="ctr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973080" indent="181080" algn="ctr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1828800" indent="11160" algn="ctr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5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6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ism-info.de/start.html" TargetMode="External"/><Relationship Id="rId3" Type="http://schemas.openxmlformats.org/officeDocument/2006/relationships/hyperlink" Target="http://www.ism-info.de/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20500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herche im Informationssystem Medienpädag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5640" y="3860640"/>
            <a:ext cx="637236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Ein einführendes Tutorial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0036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133720"/>
            <a:ext cx="270216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Titel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Titeln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Jahreszahl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SB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SBN – Nummer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endung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Rundfunk- und Fernsehsendung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708000" y="2637000"/>
            <a:ext cx="2592360" cy="504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laufenden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Projekt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68360" y="3933720"/>
            <a:ext cx="100836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076640"/>
            <a:ext cx="30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Erlaubt die Such auf laufende oder abgeschlossene Projekte zu beschränk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276360" y="4292280"/>
            <a:ext cx="115092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3068640"/>
            <a:ext cx="723600" cy="28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587640" y="3357720"/>
            <a:ext cx="505080" cy="792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414972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eine Übersicht aller in der Datenbank vorhandenen Schlagwort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728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2349360"/>
            <a:ext cx="27021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rojekttitel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rojekttitel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Laufend im 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en in denen ein Projekt lief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beteiligten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l Spaß bei der Recher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7596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a4a4a"/>
                </a:solidFill>
                <a:latin typeface="Arial"/>
              </a:rPr>
              <a:t>Für Fragen wenden Sie sich bitte an ism@dipf.d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6832440" cy="42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39640" y="1341360"/>
            <a:ext cx="807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ssystem Medienpädagogik</a:t>
            </a:r>
            <a:endParaRPr b="0" lang="en-US" sz="3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5867280" y="5953320"/>
            <a:ext cx="2913120" cy="296280"/>
          </a:xfrm>
          <a:prstGeom prst="rect">
            <a:avLst/>
          </a:prstGeom>
          <a:solidFill>
            <a:srgbClr val="008000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3"/>
              </a:rPr>
              <a:t>www.ism-info.de</a:t>
            </a:r>
            <a:endParaRPr b="0" lang="en-US" sz="1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2492280"/>
            <a:ext cx="807696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nachweise zu medienpädagogischen Themenfelder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asuch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ang zu den Datenbanken des ISM und seiner Partn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en über Veranstaltung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entipps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uelles von den beteiligten Instituti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685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Informationssystem Medienpädagogik bietet Ihnen</a:t>
            </a:r>
            <a:endParaRPr b="0" lang="en-US" sz="28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übergreifende, parallele Recherche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en können individuell ausgewählt und kombiniert werd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93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95640" y="2708280"/>
            <a:ext cx="1079280" cy="100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1628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lder zur Auswahl relevanter Bereich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132000" y="3573000"/>
            <a:ext cx="2735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2565360"/>
            <a:ext cx="2592360" cy="1224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227664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elder für die Eingabe von Suchbegriff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96000" y="2781360"/>
            <a:ext cx="936720" cy="216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645000"/>
            <a:ext cx="1079640" cy="8665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4292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Auswahlfelder für die Datenbanken, die in die Suche einbezogen werd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492000" y="4149720"/>
            <a:ext cx="1800360" cy="503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016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2708280"/>
            <a:ext cx="648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060640"/>
            <a:ext cx="309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esen Feldern kann die Auswahl getroffen werden in welchen Bereichen der Datenbanken gesucht werden sol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0028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ei Titel / Name wird nach dem Titel eines Werks oder dem Namen eines Autor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924280"/>
            <a:ext cx="435240" cy="217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7640" y="414972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i Freitext wird nach dem eingegebenen Wort in allen Felder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141720"/>
            <a:ext cx="721080" cy="21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79736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Bei Schlagwörter / Ort wird nach Schlagwörtern und/oder Ort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16000" y="2924280"/>
            <a:ext cx="1584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771280" y="3068280"/>
            <a:ext cx="1729080" cy="115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843280" y="3357720"/>
            <a:ext cx="1657440" cy="1584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2349360"/>
            <a:ext cx="1368360" cy="136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76720" y="2349360"/>
            <a:ext cx="259056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beteiligten Pers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Medi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rche nach englisch oder deutsch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online verfügbar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agwort und Personen Regist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3640" y="3933720"/>
            <a:ext cx="3816360" cy="93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6920" y="393372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In diesen Feldern können Sie Ihre Suchanfrage genauer spezifizier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579640" y="4508640"/>
            <a:ext cx="576360" cy="72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2000" y="2997360"/>
            <a:ext cx="720720" cy="647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005360"/>
            <a:ext cx="33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jeweils eine Übersicht aller in der Datenbank vorhandenen Schlagworte oder Person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659280" y="3573000"/>
            <a:ext cx="36036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23:44Z</dcterms:created>
  <dc:creator>Gerda Balazs</dc:creator>
  <dc:description/>
  <dc:language>en-US</dc:language>
  <cp:lastModifiedBy>Siebold, Andres</cp:lastModifiedBy>
  <dcterms:modified xsi:type="dcterms:W3CDTF">2009-01-19T15:52:55Z</dcterms:modified>
  <cp:revision>5</cp:revision>
  <dc:subject/>
  <dc:title>Folie 1</dc:title>
</cp:coreProperties>
</file>